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668-B6F0-4BC6-A853-F6716D6D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3A1-991E-45C7-ACD5-2AC30DEB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EED-C0CA-42C9-B4CC-AB2EC52C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B70-F37E-40B7-A03A-2ED07620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7330-CFD9-449A-A11A-5D9140A5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54EA-B393-4A72-A793-652FE158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27F-4BAD-4742-8759-94A7805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A93-D186-4840-A4C2-8E74CA84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A73A-E1B2-4CE8-8207-82845BA2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06A-77F6-4B99-AF2C-D4A87D27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7C63-6B0F-42B6-937D-8C07AEE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254-850A-4720-A289-6A6321FC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B34-5562-4FB6-BA0D-19EC31F0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BEC2-0632-43B9-99B4-843F98E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0653-8C7A-405B-A224-2F02342C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3B98-2F21-4F2D-AB27-7D1AABA2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9CFA-36C3-4C34-9340-6ED881D1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171-75EE-48C8-95A0-EF0451B1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08F-FAAC-42BD-BC2E-88627709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D04-8245-4856-9D3D-21BFC332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D66-858C-436A-AE64-2E70A844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3C6-5040-4985-A360-CC630D34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375-9FF2-4E03-8197-69AEC89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40E-0728-43F4-81CC-65DEC656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D697-767D-400F-ABA7-B550DA289E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4B5A-6644-4001-B8CD-11DE74387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araohs, Pyramids, and Papyr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About Egy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phis and Thebes: cities with beautiful palaces, storehouses, and te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s helped control floodwaters from N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ful paintings in pyramids tell us about Egypti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yrus: paper made from stalk of papyrus plant (reed that grows along N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was light and thin and stored eas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keep records, write letters, and tell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d Kingdom (3100-2150 B.C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 divided into 2 kingdom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Kingdom: area around 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Kingdom: Southern area around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mer: ruler of Hierankonopolis conquered all villages and cities along Nile; name means “catfish”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pharaoh (king) of united Egy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le flows south to nor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9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mm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s believed in after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almer: person paid to preserve dead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essed like embalming god, Anub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mmies: bodies preserved by being cleaned out and wrapped in linen band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ron: salt solution used to preserve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457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araoh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s believed pharaohs were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.’s had large burial chambers built and filled with food, clothing, furniture, and other things for the after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ufu: Pha. who had 3 great pyramids built in Giza along with the Sphin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yramids and Sphin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yramid: in Giza; built by Khufu; largest of 3 pyramids; built around 2500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inx: large stone statue near pyramids; lion’s body and human head (looked like Khuf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5626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3:06:51Z</dcterms:created>
  <dc:creator>erin.hendricks</dc:creator>
  <dc:description/>
  <dc:language>en-US</dc:language>
  <cp:lastModifiedBy>erin.hendricks</cp:lastModifiedBy>
  <dcterms:modified xsi:type="dcterms:W3CDTF">2011-09-14T14:23:18Z</dcterms:modified>
  <cp:revision>3</cp:revision>
  <dc:subject/>
  <dc:title>Pharaohs, Pyramids, and Papyrus</dc:title>
</cp:coreProperties>
</file>